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8AA1-99C4-442C-9112-97762A9BC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6245-E989-43A2-AB30-ECFCA6F7F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4ACA-DC2C-40C8-95D2-AAB75737A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1EBF-3F70-45F4-BF6B-FF7FC21D7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B14D-B464-401C-AB3B-903EEA9DA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38A8-1865-433A-A938-8162894FA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EEA0-2C0A-4997-A36D-2D82ED3C4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BA99-BEA6-409C-B682-A021CEAC7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D587-D900-40ED-8C2B-7747C94C3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9C46-8A7A-4CC3-9D25-30598C6DE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A45E-48D1-4E0C-951B-6058C4123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5C83-5BF4-40D7-AA6F-313AE666F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4494E-375B-4DF8-9991-D78ED1A671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MVC-001S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228600" y="2362320"/>
            <a:ext cx="4278240" cy="320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3" name="MVC-003S" descr=""/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4648320" y="2362320"/>
            <a:ext cx="4278240" cy="3206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MVC-021S" descr=""/>
          <p:cNvPicPr/>
          <p:nvPr/>
        </p:nvPicPr>
        <p:blipFill>
          <a:blip r:embed="rId1"/>
          <a:stretch/>
        </p:blipFill>
        <p:spPr>
          <a:xfrm>
            <a:off x="228600" y="2514600"/>
            <a:ext cx="426888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0" name="MVC-022S" descr=""/>
          <p:cNvPicPr/>
          <p:nvPr/>
        </p:nvPicPr>
        <p:blipFill>
          <a:blip r:embed="rId2">
            <a:lum bright="16000"/>
          </a:blip>
          <a:stretch/>
        </p:blipFill>
        <p:spPr>
          <a:xfrm>
            <a:off x="4648320" y="2514600"/>
            <a:ext cx="426852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MVC-023S" descr=""/>
          <p:cNvPicPr/>
          <p:nvPr/>
        </p:nvPicPr>
        <p:blipFill>
          <a:blip r:embed="rId1">
            <a:lum bright="16000"/>
          </a:blip>
          <a:stretch/>
        </p:blipFill>
        <p:spPr>
          <a:xfrm>
            <a:off x="228600" y="2209680"/>
            <a:ext cx="426888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MVC-025S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1523880" y="1676520"/>
            <a:ext cx="6096240" cy="457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MVC-026S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1676520" y="1752480"/>
            <a:ext cx="6095880" cy="457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MVC-027S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1600200" y="1752480"/>
            <a:ext cx="6095880" cy="457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MVC-004S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228600" y="2209680"/>
            <a:ext cx="426888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6" name="MVC-006S" descr=""/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4648320" y="2209680"/>
            <a:ext cx="426852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VC-007S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4648320" y="2438280"/>
            <a:ext cx="426852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9" name="MVC-008S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228600" y="2438280"/>
            <a:ext cx="426888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MVC-009S" descr=""/>
          <p:cNvPicPr/>
          <p:nvPr/>
        </p:nvPicPr>
        <p:blipFill>
          <a:blip r:embed="rId1">
            <a:lum bright="16000"/>
          </a:blip>
          <a:stretch/>
        </p:blipFill>
        <p:spPr>
          <a:xfrm>
            <a:off x="228600" y="2209680"/>
            <a:ext cx="426888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2" name="MVC-010S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4648320" y="2209680"/>
            <a:ext cx="426852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MVC-011S" descr=""/>
          <p:cNvPicPr/>
          <p:nvPr/>
        </p:nvPicPr>
        <p:blipFill>
          <a:blip r:embed="rId1">
            <a:lum bright="16000"/>
          </a:blip>
          <a:stretch/>
        </p:blipFill>
        <p:spPr>
          <a:xfrm>
            <a:off x="304920" y="2362320"/>
            <a:ext cx="426852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5" name="MVC-012S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4648320" y="2362320"/>
            <a:ext cx="426852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MVC-013S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228600" y="2514600"/>
            <a:ext cx="426888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8" name="MVC-014S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4648320" y="2514600"/>
            <a:ext cx="426852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MVC-015S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228600" y="2209680"/>
            <a:ext cx="426888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1" name="MVC-016S" descr=""/>
          <p:cNvPicPr/>
          <p:nvPr/>
        </p:nvPicPr>
        <p:blipFill>
          <a:blip r:embed="rId2">
            <a:lum bright="16000"/>
          </a:blip>
          <a:stretch/>
        </p:blipFill>
        <p:spPr>
          <a:xfrm>
            <a:off x="4648320" y="2209680"/>
            <a:ext cx="426852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MVC-018S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228600" y="2362320"/>
            <a:ext cx="426888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4" name="MVC-019S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4648320" y="2362320"/>
            <a:ext cx="426852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UK StormReady Ceremony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October 15,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MVC-017S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4648320" y="2514600"/>
            <a:ext cx="426852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7" name="MVC-020S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228600" y="2514600"/>
            <a:ext cx="4268880" cy="320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5T14:38:25Z</dcterms:created>
  <dc:creator>BBottom</dc:creator>
  <dc:description/>
  <dc:language>en-US</dc:language>
  <cp:lastModifiedBy>BBottom</cp:lastModifiedBy>
  <cp:lastPrinted>2003-10-15T15:27:21Z</cp:lastPrinted>
  <dcterms:modified xsi:type="dcterms:W3CDTF">2003-10-15T15:39:31Z</dcterms:modified>
  <cp:revision>3</cp:revision>
  <dc:subject/>
  <dc:title>UK StormReady Ceremony October 15, 2003</dc:title>
</cp:coreProperties>
</file>